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3CC2-20F7-4407-ADCD-9CAD182B0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98640" y="539640"/>
            <a:ext cx="4860720" cy="3645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RPOS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how the different emphases of the Content Standards across the gr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EAK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igure shows the different emphases of the Content Standards across the grade-bands.  For example, at the Pre-K-2 level, Number and Operations receives much more emphasis than Algebra but Algebra receives more attention in 9-12 than Number and 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meant only to be suggestive;  much of an instructional program may integrate the various Standards.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RMATION POINTS FOR 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ete Mathematics is integrated through the Standards (se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inciples and Standards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. 31 for discussion.)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inciples and Standards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.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69D2-14C4-4039-A359-D7D437160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1378-3187-4477-A2EC-86898F78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F887-5C85-4E37-A650-D45476519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0516-83EC-466A-A236-D313142D4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8DAC-A310-4F8F-9317-A5B63E1F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A772-AD8D-4C86-9153-CAC22E40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9229-B70C-4E41-8A72-44F8C9FC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A1DB-8875-4083-AC66-0859C0E3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A681-63C8-4CA3-A7AA-048EE163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3519-761F-4AE4-9E2F-77C673FA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3184-047A-4C44-96DB-BF150489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BE54-4E8D-451B-8C23-3A20C814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6DE8-67B2-4776-AAC5-2393D801C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mphasis Across the Gr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2514600"/>
            <a:ext cx="163512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3429000"/>
            <a:ext cx="1193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426708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5029200"/>
            <a:ext cx="1841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5715000"/>
            <a:ext cx="201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Analysis and Prob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2133720"/>
            <a:ext cx="1295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-K–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2133720"/>
            <a:ext cx="901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–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2133720"/>
            <a:ext cx="901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–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2133720"/>
            <a:ext cx="901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–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895480" y="2514600"/>
            <a:ext cx="3824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ral- Model-Symbol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666880" y="2286000"/>
          <a:ext cx="4496040" cy="33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286000"/>
                    <a:ext cx="44960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3886200" y="19810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1828800"/>
            <a:ext cx="15238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4952880"/>
            <a:ext cx="22860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tract Sym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00800" y="4876920"/>
            <a:ext cx="1981080" cy="825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ten and Oral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352680" y="2743200"/>
            <a:ext cx="762120" cy="1295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87440" y="5180760"/>
            <a:ext cx="1503000" cy="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5852160" y="2768400"/>
            <a:ext cx="716400" cy="1321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0" y="17175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17:43:10Z</dcterms:created>
  <dc:creator>Bonnie Gabriel</dc:creator>
  <dc:description/>
  <dc:language>en-US</dc:language>
  <cp:lastModifiedBy>Bonnie Gabriel</cp:lastModifiedBy>
  <dcterms:modified xsi:type="dcterms:W3CDTF">2005-03-02T17:47:08Z</dcterms:modified>
  <cp:revision>1</cp:revision>
  <dc:subject/>
  <dc:title>Emphasis Across the Grades</dc:title>
</cp:coreProperties>
</file>